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A82C-13AF-4062-BE54-DC128826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3185-383B-403B-AF7F-DB7540F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D1F3-5D1A-4218-9ABB-F204CBF1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865A-942F-4A70-A9DE-C3A23BF1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CD0-24BA-4553-A3C0-ADB3BB9A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A2AF-3D1F-4409-B6EF-EFA8029F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25D3-C1AE-4B5E-B4A4-BADF38E1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421E-BA4B-4B7B-B839-F6B3CF83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64D9-5062-4739-A034-B1D840D8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571A-CA8A-4910-A408-015CB5E3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E8D8-D751-4732-98CA-BD3337BC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661B-45C0-4E04-9D2B-0F7B291A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1E5-D02A-46FF-972C-BFCBF89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CB7D-E81D-487F-BC23-A9072D8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977E-8657-4F41-8D3C-14893CB9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E9F-5460-4280-B99B-DB54F1BC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D856-A0F4-436E-BE0C-F0A7DA2E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3FD0-4E1B-45DB-9003-6EACD0C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A050-5922-4EB3-A9F1-4A1329D4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FA27-BAE6-4CE1-843C-90F4F808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816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04B0-8406-4C9B-BD8C-93FBB61E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8A29-ED97-4D4F-BDA7-03C07BA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C6D5-7F6E-4FBA-9F60-01DFAF7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633B-0AD9-45FC-8863-8A09E9F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687795-215F-43AE-9072-D4261D4CB2B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3" name="Rectangle 4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2" name="Rectangle 2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4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55" name="Rectangle 5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6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E51232-4307-4EBE-8AC6-757C581D9F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2971800" y="4267080"/>
            <a:ext cx="601812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Для добавления текста щелкните мышью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6762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Чему важно научиться, для того, чтобы стать менее агрессивным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499760"/>
            <a:ext cx="82281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первых, научиться распознавать и регулировать некоторые формы своего пове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-вторых, разряжать подавленную агрессию в приемлемых форм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рессия присуща, всем людям без исключения, так как это естественная защитная реакция. Поэтому проявлять агрессию очень легко, а преодолевать и заменять ее другими формами поведения гораздо слож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1"/>
          <p:cNvSpPr txBox="1"/>
          <p:nvPr/>
        </p:nvSpPr>
        <p:spPr>
          <a:xfrm>
            <a:off x="762120" y="190512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1240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000160" y="26463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Прогоняя з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500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контролируем агрессию)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8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авила работы в групп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43040"/>
            <a:ext cx="822816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(активная работа на занятии каждого участн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Один в эфире" (не перебивать того, кто говори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Равные права" (не критиковать  высказывания другого участника, каждый имеет право на своё мнени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Я" (говорить только от своего имени, за себ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Стоп" (каждый имеет право прекратить обсуждение его проблем, если это ему неприя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371600" y="7621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Что такое агресс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838080" y="1428840"/>
            <a:ext cx="80200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Агрессия – "   поведение, направленное на нанесение физического или морального  ущерба кому-либо"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Басс и А. Дарки выделяют 5 видов агрес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848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Физическая агрессия (физические действия против кого-либ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здражение (вспыльчивость, груб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ербальная агрессия (угрозы, крики, ругань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Косвенная агрессия:(сплетни, злобные шутки, крики в толпе, топание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егативизм (оппозиционная манера повед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виды агрессии можно наблюдать у людей разных  возрас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тчи Иисуса Христа. Новый завет - YouTube"/>
          <p:cNvPicPr/>
          <p:nvPr/>
        </p:nvPicPr>
        <p:blipFill>
          <a:blip r:embed="rId1"/>
          <a:stretch/>
        </p:blipFill>
        <p:spPr>
          <a:xfrm>
            <a:off x="428760" y="642960"/>
            <a:ext cx="8429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Общие причины возникновения агресс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скорбления, унижение, агрессия со стороны други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епятствия в достижении ц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нутренний дискомфорт, неувер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умение контролировать свои эмо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ревожность, отверж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адекватная самооц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желание привлечь внимание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320" y="785880"/>
            <a:ext cx="8227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ртрет агрессивного подростка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428480"/>
            <a:ext cx="82281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жает другим людям словами, жестами, взгляд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инициатором драк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спытывает сострадания, может намеренно делать больно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ий, не раскаивается в содеян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читается с мнением родителей, их запрета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ивает уроки, конфликтует с учителями, сверс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286080" y="4643280"/>
            <a:ext cx="292896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785520"/>
            <a:ext cx="82281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годня 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чувствова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получилось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пробу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1-06-15T05:50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